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4F2-AC8D-40B7-8164-AD02E80E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314-63DE-4E29-B2BD-11F9C1D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CAE-FA4E-4242-B64A-81110809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3FB-086B-4615-9CB8-1E6B3219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809-5D8D-4E0B-A38C-7EABCA2B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88AF-C528-4AD5-BD6F-01533CC1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1E85-2911-4171-AB41-17A3B56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9BB-1953-4B95-B760-A0E6430E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888E-1439-4BB9-B3AA-460B904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D6E8-0582-4741-B708-091F7900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C558-A97D-4010-86AA-C8C16F0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845-661C-4FF2-857F-8BD659A8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F0D-A50D-451D-A08F-E7829F6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14E1-CF41-4370-84AD-F1B29CD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3082-0D26-47C3-83FD-3127BBED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90F8-71D3-4603-B495-8A9CA157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87D4-12A0-4FA8-8BCC-945615EA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5A6-B7CC-4D6D-BE41-886FE020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501-CD85-455B-8E6F-ACBB7F2A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F5E-A706-4BF4-B505-89DCEA10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BA3-DADF-4EAB-8CB4-51232778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121-A5D0-49E2-BEB4-BF73FAE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0C6-F526-4F1E-8AB2-1206442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3D-6AEF-4080-8710-8C6A07D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B0B7-9106-47A2-A76A-143D508A70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0A5-6CED-4B68-A6D6-9753E2BAB7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илац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је ПРИСУСТВО,ОБ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 или релативно одсуство представ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Н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Н УСЛОВ за настанак об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БИОЛО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Ш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КИ АГЕНСИ Каракетисике 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вих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 од којих зависи настанак ЗАРАЗНОГ обо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:</a:t>
            </a:r>
            <a:r>
              <a:rPr b="0" lang="en-US" sz="4000" spc="-1" strike="noStrike">
                <a:solidFill>
                  <a:srgbClr val="ffffcc"/>
                </a:solidFill>
                <a:latin typeface="Times Cirilic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изл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з орган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уласка у орган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нтагиз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кс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ун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ст и резистенција на лекове и дезинфекциона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порност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ш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1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1.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блигатн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арази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ан организма брзо пропад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морбили, сифилис, гонореја, епидем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и менинг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2.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ко време опстају ван организма, али се НЕ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бацил ТБ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2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ВАН ОРГАНИЗМА у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пово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им условима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 РАЗМН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рбушн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тифус, паратифус, колера, дизенте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4.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го опстају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 у облику СП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анаеробне бактерије-проузроко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тетануса, гасне гангрене, боту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собине биолошког агенса одоворне за појаву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нтаг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АТОГЕ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зиолошка особи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р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НТАГИОЗ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к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 којом се болес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ЕНОСИ на друге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ФЕКТИВ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особност агенса да ПРОДРЕ у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, ОДР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се и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(развија у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м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РУЛЕНЦИЈА   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епен патоге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Pромен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особин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икроорганиз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Фактори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 и средине м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у вируленц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ог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 слаб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вируленције користи 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 произво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х вакц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број пас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на вешт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м хранилиштима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атенуација,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др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 своје антигене особине (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е вакцине – МоРуПар</a:t>
            </a:r>
            <a:r>
              <a:rPr b="0" lang="en-US" sz="2400" spc="-1" strike="noStrike">
                <a:solidFill>
                  <a:srgbClr val="ffffff"/>
                </a:solidFill>
                <a:latin typeface="Times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на појаву, ток и исход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у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и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Ду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и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д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а епид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ре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нкубација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е за одр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н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ше субкли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х и лаких атип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их инфекција од 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кива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еталитет 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иментарне епидем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1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З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јна у предузи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мера превен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ласком у контакт са малом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ом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п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мо појав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убклин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им инфекцијама развија се отпорон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лошки тријас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                 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666880"/>
            <a:ext cx="2666880" cy="2133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8400" y="609480"/>
            <a:ext cx="623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 = резервоар и/или из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Један агенс    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разл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ити м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усобно неповезани агенс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алтернативно дејство)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два или в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е агенас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кумулативно дејство)  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Резерво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, артропод, б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а, 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ли супстанција као и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хова комбинација у којој инфективни аген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ормал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ИВ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и са кој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м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е да се пренесе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 организам, м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и н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сре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цеви за топлу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за расхл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ва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Изв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, предмет или супстанција са које се инфективни агенс у од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ом тренутку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Cirilica"/>
              </a:rPr>
              <a:t>пренос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 доводи до појав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вода за п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за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ty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EРВО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периоду инкубац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то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продромалнoм стад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а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неманифе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обл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бo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1752120"/>
            <a:ext cx="9144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623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240" y="609480"/>
            <a:ext cx="5819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ВАЖНИЈИ РЕЗЕРВО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ОВЕК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 - 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ПЕРИОДУ ИНКУБАЦИЈ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резерво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= од продора инфективног агенса у организам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рвих симптома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кратка инкубација  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назеб, грип, бац. дизентер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фекц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токсик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ду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а инкубациј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ИДА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, хепатитис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ј и вируленција к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ст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сто уласка у организ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60948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 инкубацију у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Инкубац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1. Болесник у инкубацији НИЈЕ резервоар инфекције (ва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ла, вариола, морбили, пертусис, г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, т. тифус, паратиф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2. Болесник је резервоар инфекције ПРИ  КРАЈУ инкубације (паротитис, акутне вирусне респираторне болести, полиомијелити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Болесник је резервоар инфекције током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Г ПЕРИОДА (хепатитис А, хепатитис Б, хепатитис 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 манифестне или суб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е, инапарентне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резервоа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ромал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адиј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анифес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o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 продромалном стадију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је се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рој клиц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разност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ерални стад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рбила, ва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, рубеле, вари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икте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тадијум код вирусног хепат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н стадију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ов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з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симптоматолог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је мог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поставити т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 дијагно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648320"/>
            <a:ext cx="381240" cy="75960"/>
          </a:xfrm>
          <a:custGeom>
            <a:avLst/>
            <a:gdLst>
              <a:gd name="textAreaLeft" fmla="*/ 47520 w 381240"/>
              <a:gd name="textAreaRight" fmla="*/ 333720 w 3812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а (морбил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вариола, варл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ла, рубела, скарлaтина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еудом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ране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 поједи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 органима (дифтер. запa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ц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(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л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дром (епидем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м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и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рифернe парaлизе (полиoм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јели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резервоар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Немају епидемиолoшки зна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ј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јагноза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олација и л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рaзност нагло oпадa и кратко трај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вирусни хепат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 А, 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ификација агенаса и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х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рактерист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 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фи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хемиј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биол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шки (фудроајантни, фулминантни, малигни)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рт пре постав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 дијагно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зл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на велика кол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а кл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вариола (вариола конфлуенс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фудроајантни облик епидем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ог менингитис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круп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шарл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лгидна форма колер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патитис А код трудн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Лаки (амбулантни, абортивни)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јав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ју се лекару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јагноза погреш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л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с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ки (амбулантни, абортивни)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адекватно се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а, морбили, руб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рлах без 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зап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без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тусис без зац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мбулантни облик трбушног тиф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проливи код дизентерије и кол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омијелитис са катаралним променам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респираторном и дигестивном тр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русни хепатитис А код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одступају од каракте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    кли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 сл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интезнивнији и б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Ови болесници су епидемиолошки веома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нема клин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е слике-симптома и знаков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синоними: латентни, безсимптомни, неприметни, инапарентни, нем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стају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лог броја проузроков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або вирулентних соје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лим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(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или не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)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пор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мунитет истог квалитета као и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 прел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ног м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фестног об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јагноза се по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ск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во лабораторијски (изолација узр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ка, серолошке реакције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r>
              <a:rPr b="1" lang="sr-CS" sz="3400" spc="-1" strike="noStrike" u="sng">
                <a:solidFill>
                  <a:srgbClr val="ffffff"/>
                </a:solidFill>
                <a:uFillTx/>
                <a:latin typeface="Arial"/>
              </a:rPr>
              <a:t> резервоар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идмиолошки зн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ј велик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но постав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дијагноз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ко шир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заразе на околину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– КЛИЦОНО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а се з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 на нивоу колонизације уколико постој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о диспози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тпо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 после кли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 о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кратко (највише 3 м.) 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у к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валесцентне, пролазне, привре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 ако је изостало адекватно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ремено (интермит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но (перман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т (физ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окс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 (хемијс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ирулен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биол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НО клицонош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фтерија – хронично запаљење слузокоже;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рептококне инф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епатитис Б – трансплацентарни пренос, ХИВ, Даунов синдром, пацијенти на хемодијали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арија – нелечени или недовољно л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шко их је разликовати од неманифестно оболелих 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лучивање клица је краткотрај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ављају се при епидемијској појави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лицима у непосредној околини болесника – они који негују болес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тко се откри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ији од клицоноша после прележаних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ЕРВОАРИ ЗАРА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ес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манифестно обл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неманефестно об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клицонош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чују велику количину к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рав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гр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оз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руцело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ње, краве, др. домаће животиње, глодар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птоспир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лободној природи (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им нас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а (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,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– глодар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 свих об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себно су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е антропозоон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ропозоонозе према етиолог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еријске: антракс, бовина ТБЦ, туларемија, лептоспирозе, малеус – сакагија, к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усне:беснило, пситактоза-орнитоза, слинавка-шап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грозница, сезонски енцефалитис, вирусне хемораг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оз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кецијске: љ – грозница и други пегав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тозалне: токсоплазмоза, шистозомијаза, лајшманијаза, трипанозом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минтозе: тенијазе, ехинококозе,трихинел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: микроспорије, трихофитија, фав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 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риторија у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ј природи у којој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на заједница (по Павловск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улација у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која заједно са попу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јом 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а 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а, а у с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смисивних зараза и популацијом вектора, 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ом биотопу (по Беклемише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 с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јно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 инфекцији у току след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умар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јници за време логоро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рше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ист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 еки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на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алост за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 који бораве у природно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у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ентност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ладни кр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и инсе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ја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е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ц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руси                      г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виц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ктерије                протоз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икеције                  хелмин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према броју узро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ик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према броју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ених 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ивот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њ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ских врст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према векторима (инсекти и пауколики зглавкари) који 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вују у прено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уз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но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ше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азм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ди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, вектора и микроорганизама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не везане за сез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активност природ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а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или у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од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ских нас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ТРОПУРГ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трази за храном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приб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ришт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дским нас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у ензоотски процес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ју и дома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и глода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п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и менингоенцефал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мска-Конго хемораг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г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окo и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 излаг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генс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мно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и аге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о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; д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л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ХАНИЗАМ  ОДР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ВА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  ПРИРОДНОГ 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 узр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ка у виду примарног, независног епизоо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г проц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и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ниф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стн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ол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. донор                                                                                                  (рецепто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бкли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81080" y="25146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35268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венција природ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них 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зира на позна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рактеристика ензоотског процеса у конкрет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и принц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зашт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контакта са резервоаром и преносиоцем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кид 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природ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ЛАЗНА  И  ИЗЛАЗНА  МЕСТА  ИНФЕКЦИЈ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респиратор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дигестив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е слуз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838080"/>
          <a:ext cx="8229600" cy="529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рочник, бол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ЕД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торног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птококна инфекција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 слуз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ус дечје парали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рак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 и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кро и макро лезије коже и видљивих слуз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птоспитро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838080"/>
          <a:ext cx="8229600" cy="58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п, м. бог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, назеб, зау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, велики к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шар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рев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.тифус, паратифус А,Б, бац. диз., вир. хепатитис А, де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 парализа, колера, тров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хра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кторск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рија, пегав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повратн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. грозница, денга, папат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грозница, лај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ијаза, трипанозомиј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рункулоза, карбункулоза, флегмона, импетиго, актиномикоза, трихофитија, фавус, еризип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екције 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анус, гасна гангр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хом, бленореја, ко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тивитис разл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е етиолог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е бол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нореја, сифилис,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В инфекција, вирусни хепатитис Б и Ц, генитални херп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149480" y="22860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с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на на основу ГЛАВНОГ улазног места поузроков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ОПОЗООНОЗЕ (једно или више улазних мест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акс, бруцелоза, туларемија, куг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грозница, лептоспироз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нитоза-пситакоза, слинав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, сакагија, бесн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укупност сп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илац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и не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е који делују на 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ну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јединицу или еколошку заједницу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хов развој и опста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средина (екосфер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ј 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е коре, у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ду и ваздух у коме је смештен целокупн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с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иотска – ге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тска – би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 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дносим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вих би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 и среди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а их о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(остале јединке исте врсте, флора и фауна и целокуп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при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ПИДЕМИ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СКА (ХУМАНА) 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е одно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века и седи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имају утицаја на здр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пература (ниска и висо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з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з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 (м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 сила, звук, потрес, вибр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хват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у природу – геосф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да, кисеоник, минерали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идр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ЛО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АН утицај на 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ендемска г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о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достатак јода у тл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флуро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зуба због п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садр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F2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к пл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о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 еманација радона из тла по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а природни ф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оактивности тере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ГРАФС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РЕКТНИ утиц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здрављ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РЕКТ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тицај на топографску расподел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. 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б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и односи које он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о успост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није мува и 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а зајед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РЕКТНИ ЕФЕКТ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или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доводе до поре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ског здра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ци заразних болести (вируси, рикеције, бактерије, 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це, протозое и 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и парази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(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главица, буни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ауци, зми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осе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ст на 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олен, пер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ИНДИРЕКТНИ ЕФЕКТ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ектор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нимални резервоари зараз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ТИЦАЈ НА ЗДРАВСТВЕНО СТА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Д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п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ости (б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е,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) неух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ност, уми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 од глади и заразних болест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анас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дноси у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дској заједниц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о-економско ст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доступни обрасци по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а (исхрана, пу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физ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 активност, пот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алкохол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Најзначајнији хемијс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Пестиц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сект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унг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ерб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рехрамбеној индустр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ске бо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зерв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оксид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229600" cy="58208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  <a:gridCol w="3962520"/>
              </a:tblGrid>
              <a:tr h="82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МИЈСКИ АГЕН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РO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З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РГАНСКИ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алогени ел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О, Pb, Hg,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елине, баз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СКИ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лорофор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р, алкохол бензол, фенo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ШКОГ порек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оксини отрoвних гљи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алоиди и гликозид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љног порекла, отрови з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ек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Д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емија, хепати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јабе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огликемијска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a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ерхолестероле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монски дисбалан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БИОЛО</a:t>
            </a:r>
            <a:r>
              <a:rPr b="0" lang="sr-CS" sz="4400" spc="-1" strike="noStrike">
                <a:solidFill>
                  <a:srgbClr val="ffffcc"/>
                </a:solidFill>
                <a:latin typeface="Times Cirilic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ке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Г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то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та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1T07:37:03Z</dcterms:modified>
  <cp:revision>1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