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D5B-832B-4FBE-8367-6EB92F92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72D-B759-4A4D-A812-2D912AA3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ACA-74AA-4431-BA56-83F24371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EC5-D895-40BD-AB5B-C1D9066F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388-F9AA-4DC2-A628-70293FC5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0F0-E9E0-4AE3-8F2D-6AD1D781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399-5145-4339-89A3-F38A0498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9F3-C31B-4C4D-8A40-41B5C8B9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C3D-F402-4FE2-BC3F-220E3520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8F7-DF6E-471A-BE96-B425C6C8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B5F-E371-4C11-8926-954F5C3B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5FA-C306-48EF-812A-80CEF891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2107-13D1-4731-9419-98C438072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213920"/>
            <a:ext cx="8501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нфекциј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 продирање и развој или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змножавање инфективног агенса у организму човека или животи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је синоним за инфективну боле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оже бит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апарентна (неклиничка, супклиничка, неприметна) без препознатљивих клиничких симптома и знак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нифестна (симптоми и знаци болести уочљиви). Клинички манифестно обољење има лаку, тешку или фаталну форму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25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рус рабиј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рус морб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ацил туберкул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00360" y="5084640"/>
          <a:ext cx="6264360" cy="639720"/>
        </p:xfrm>
        <a:graphic>
          <a:graphicData uri="http://schemas.openxmlformats.org/drawingml/2006/table">
            <a:tbl>
              <a:tblPr/>
              <a:tblGrid>
                <a:gridCol w="3095640"/>
                <a:gridCol w="1297080"/>
                <a:gridCol w="647640"/>
                <a:gridCol w="647640"/>
                <a:gridCol w="57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апарентна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ко обољ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ал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71640" y="1916280"/>
          <a:ext cx="6127560" cy="639720"/>
        </p:xfrm>
        <a:graphic>
          <a:graphicData uri="http://schemas.openxmlformats.org/drawingml/2006/table">
            <a:tbl>
              <a:tblPr/>
              <a:tblGrid>
                <a:gridCol w="1568880"/>
                <a:gridCol w="455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о обољ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ално обољ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00360" y="3429000"/>
          <a:ext cx="6121440" cy="695160"/>
        </p:xfrm>
        <a:graphic>
          <a:graphicData uri="http://schemas.openxmlformats.org/drawingml/2006/table">
            <a:tbl>
              <a:tblPr/>
              <a:tblGrid>
                <a:gridCol w="1098360"/>
                <a:gridCol w="1019520"/>
                <a:gridCol w="2354040"/>
                <a:gridCol w="1000080"/>
                <a:gridCol w="6494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апа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ко обољ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ено те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жина клиничке слике зависи 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1. карактеристика и количине а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вирулентност сој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поједини серотипови а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2. карактеристика домаћ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уберкулоза (код оболелих од сид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лмонелозе (у особа са српастом анемијом и ахлорхидриј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Феномен леденог бре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08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идљиви 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клинички манифестно обо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видљиви 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собе са клинички неманифестним обољењ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болели са благом симптоматологијом који не траже помоћ лек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болели са погрешном дјагно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бољење није евидентир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4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еномен леденог 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Text Placeholder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48904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360" y="1341360"/>
            <a:ext cx="5400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Болести заразне етиологиј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*Туберкулоза, полиомијелитис, менингококни менингитис (90% инфицираних има инапарентну инфекциј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апарентну инфекцију дијагностикујем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кожним пробама (туберкулинске проб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лабораторијски (изолација узрочника или серолош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Болести незаразне етиологиј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*психијатријска обољ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ирок дијапазон манифест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ћину чине благе фор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2060280"/>
            <a:ext cx="871524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ок болести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Calibri"/>
              </a:rPr>
              <a:t>од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момент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зложености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агенсу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Calibri"/>
              </a:rPr>
              <a:t>до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њеног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сх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Фазе п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иродн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 то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есимптоматска (преклиничка) фаз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време од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тка излжености аген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до појаве првих симптома и/или знакова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аза клинички испољене болес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к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предује ка фаталном исх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 подложна ремисијама и рецидивима (егзацербација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нтано се повлачи водећи опорав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2276280"/>
            <a:ext cx="8786880" cy="39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мени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риродни ток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откривањ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лечењ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но откривање и одговарајуће лечење мог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уно спречити настајање манифестне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спорити болест која се испољ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принети успешном излече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4500360"/>
            <a:ext cx="4214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иродни ток болести код оболелих од рака церви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диспла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carcinoma in si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инвазивни карци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4500360"/>
            <a:ext cx="42098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иродни ток исхемичне болести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атеросклеротичне промене на каротид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краткотрајни исхемични нап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мождани уд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714240" y="3142800"/>
            <a:ext cx="385848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4571640" y="3142800"/>
            <a:ext cx="371556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56" name="Rectangle 8"/>
          <p:cNvSpPr/>
          <p:nvPr/>
        </p:nvSpPr>
        <p:spPr>
          <a:xfrm>
            <a:off x="357120" y="1643040"/>
            <a:ext cx="128592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зложеност етиолошком  аген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000160" y="1643040"/>
            <a:ext cx="141948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атолошке изме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924360" y="1700280"/>
            <a:ext cx="143028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643880" y="1714680"/>
            <a:ext cx="107136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500800" y="1714680"/>
            <a:ext cx="209556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Уобичајено време дијагностиковањ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929200" y="3786120"/>
            <a:ext cx="24289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линичка фаза боле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714240" y="3786120"/>
            <a:ext cx="250056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симптоматска фаза боле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17"/>
          <p:cNvCxnSpPr/>
          <p:nvPr/>
        </p:nvCxnSpPr>
        <p:spPr>
          <a:xfrm flipH="1">
            <a:off x="926280" y="2500200"/>
            <a:ext cx="252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19"/>
          <p:cNvCxnSpPr/>
          <p:nvPr/>
        </p:nvCxnSpPr>
        <p:spPr>
          <a:xfrm flipH="1">
            <a:off x="271440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20"/>
          <p:cNvCxnSpPr/>
          <p:nvPr/>
        </p:nvCxnSpPr>
        <p:spPr>
          <a:xfrm flipH="1">
            <a:off x="457164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21"/>
          <p:cNvCxnSpPr/>
          <p:nvPr/>
        </p:nvCxnSpPr>
        <p:spPr>
          <a:xfrm flipH="1">
            <a:off x="621468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22"/>
          <p:cNvCxnSpPr/>
          <p:nvPr/>
        </p:nvCxnSpPr>
        <p:spPr>
          <a:xfrm flipH="1">
            <a:off x="814356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 flipH="1" flipV="1">
            <a:off x="856440" y="3357000"/>
            <a:ext cx="2520" cy="2862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26"/>
          <p:cNvCxnSpPr/>
          <p:nvPr/>
        </p:nvCxnSpPr>
        <p:spPr>
          <a:xfrm flipH="1" flipV="1">
            <a:off x="8214480" y="3357000"/>
            <a:ext cx="2520" cy="2862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родни ток болести код заразних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ктар испољавања болести у домаћину тј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блиц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спољавања болести (креће се од инапарентне инфекције до смртног исхо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ухвата широк дијапазон манифестација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Градијент инфекц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2560" y="1071720"/>
            <a:ext cx="8715240" cy="87120"/>
          </a:xfrm>
          <a:prstGeom prst="rect">
            <a:avLst/>
          </a:prstGeom>
          <a:noFill/>
          <a:ln w="0">
            <a:noFill/>
          </a:ln>
        </p:spPr>
        <p:txBody>
          <a:bodyPr tIns="41400" bIns="414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7"/>
          <p:cNvCxnSpPr/>
          <p:nvPr/>
        </p:nvCxnSpPr>
        <p:spPr>
          <a:xfrm>
            <a:off x="642960" y="4142880"/>
            <a:ext cx="2215440" cy="2520"/>
          </a:xfrm>
          <a:prstGeom prst="straightConnector1">
            <a:avLst/>
          </a:prstGeom>
          <a:ln cap="rnd"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6" name="Straight Arrow Connector 9"/>
          <p:cNvCxnSpPr/>
          <p:nvPr/>
        </p:nvCxnSpPr>
        <p:spPr>
          <a:xfrm>
            <a:off x="2857680" y="4142880"/>
            <a:ext cx="5644080" cy="2520"/>
          </a:xfrm>
          <a:prstGeom prst="straightConnector1">
            <a:avLst/>
          </a:prstGeom>
          <a:ln cap="rnd"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7" name="Straight Arrow Connector 12"/>
          <p:cNvCxnSpPr/>
          <p:nvPr/>
        </p:nvCxnSpPr>
        <p:spPr>
          <a:xfrm flipH="1">
            <a:off x="569160" y="3142800"/>
            <a:ext cx="2520" cy="716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Straight Arrow Connector 13"/>
          <p:cNvCxnSpPr/>
          <p:nvPr/>
        </p:nvCxnSpPr>
        <p:spPr>
          <a:xfrm flipH="1">
            <a:off x="285732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Straight Arrow Connector 14"/>
          <p:cNvCxnSpPr/>
          <p:nvPr/>
        </p:nvCxnSpPr>
        <p:spPr>
          <a:xfrm flipH="1">
            <a:off x="850068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5"/>
          <p:cNvCxnSpPr/>
          <p:nvPr/>
        </p:nvCxnSpPr>
        <p:spPr>
          <a:xfrm flipH="1">
            <a:off x="678636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>
            <a:off x="471456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/>
          <p:nvPr/>
        </p:nvCxnSpPr>
        <p:spPr>
          <a:xfrm flipH="1" flipV="1">
            <a:off x="571320" y="4500360"/>
            <a:ext cx="2160" cy="7149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19"/>
          <p:cNvCxnSpPr/>
          <p:nvPr/>
        </p:nvCxnSpPr>
        <p:spPr>
          <a:xfrm flipH="1" flipV="1">
            <a:off x="8500680" y="442836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20"/>
          <p:cNvCxnSpPr/>
          <p:nvPr/>
        </p:nvCxnSpPr>
        <p:spPr>
          <a:xfrm flipH="1" flipV="1">
            <a:off x="2857320" y="4500360"/>
            <a:ext cx="2160" cy="7149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Rectangle 21"/>
          <p:cNvSpPr/>
          <p:nvPr/>
        </p:nvSpPr>
        <p:spPr>
          <a:xfrm>
            <a:off x="785880" y="3002040"/>
            <a:ext cx="157140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апарентна инфек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6858000" y="3000960"/>
            <a:ext cx="1571760" cy="368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0" lang="sr-C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4929120" y="3002040"/>
            <a:ext cx="157176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ешко обо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3000240" y="3002040"/>
            <a:ext cx="157176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ако обо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3143160" y="4645080"/>
            <a:ext cx="500076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линички манифестно обољење (присуство симптома и знакова боле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714240" y="4576320"/>
            <a:ext cx="2000520" cy="119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пклиничка инфекција (без симптома и знако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7:31:48Z</dcterms:created>
  <dc:creator>Goran</dc:creator>
  <dc:description/>
  <dc:language>en-US</dc:language>
  <cp:lastModifiedBy> </cp:lastModifiedBy>
  <dcterms:modified xsi:type="dcterms:W3CDTF">2015-09-05T07:25:12Z</dcterms:modified>
  <cp:revision>20</cp:revision>
  <dc:subject/>
  <dc:title>Природни ток болести</dc:title>
</cp:coreProperties>
</file>